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5223-2038-4385-937C-C6A11FC95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7FF-C294-4DCD-8379-03FA475B4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AC7D-2125-427D-A4AF-E6D798C93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2B4-FE8D-40AB-BB1D-0793AA237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C196-67EA-4D07-AC25-65FE5BC54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C3796-27E7-40ED-B760-958EE937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236C-E821-41F0-AE8D-899D3666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3BFB-206D-4601-B705-C91FA7EE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A09BB-095C-4148-99D8-D591D1F70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3585-B261-4945-927A-29493588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CD4C-FB9D-4D7C-87D6-C6ED05F9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E9BD-11BC-4103-85D9-6EBF879E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0563-C702-41D9-82EE-10B168DC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1BCF-C1E7-4CA5-9AF4-3956A152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F714-68BD-4136-8C8E-DAA65DD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43FA-C9D0-423E-8CAD-0D704000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8C2D-6142-44B7-9582-AAA67F832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CE3-7FDE-4983-B0B6-FA39F2F53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3B02-B985-4607-9B74-D8E3B51B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3061-4EC1-4C43-A2D6-9D6E5276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3F66-B45F-45DE-AFFC-830F7A58F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12B5-3CEF-4207-89B1-A76D57D8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9F7-C318-4B93-BFDC-C3C769E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7B3D-6CB5-462B-AFD7-C93CAC94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B7A-2C7A-4075-902E-99366E8FC5E8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22E8-1C4A-4B9C-A72F-6B2731E57B66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Arial"/>
              </a:rPr>
              <a:t>PEDIGREE CHARTS</a:t>
            </a:r>
            <a:r>
              <a:rPr b="0" lang="fr-FR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amily history of a genetic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at is a pedigree char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10760" y="1904760"/>
            <a:ext cx="8123400" cy="35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digree charts show a record of the family of an individu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can be used to study the transmission of a hereditary cond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y are particularly useful when there are large families and a good family record over several genera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</a:t>
            </a:r>
            <a:r>
              <a:rPr b="0" lang="en-US" sz="12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tudying human genetic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9720" y="1904760"/>
            <a:ext cx="780444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cannot make humans of different types breed togeth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edigree charts offer an ethical way of studying human genetic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day genetic engineering has new tools to offer doctors studying genetic diseas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enetic counsellor will still use pedigree charts to help determine the distribution of a disease in an affected fami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Symbols used in pedigree charts</a:t>
            </a: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90160" y="1905120"/>
            <a:ext cx="467820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rmal 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ffected 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Normal fe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Affected fem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92080" indent="-892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rri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273560" y="1628640"/>
            <a:ext cx="4546440" cy="3689280"/>
            <a:chOff x="4273560" y="1628640"/>
            <a:chExt cx="4546440" cy="3689280"/>
          </a:xfrm>
        </p:grpSpPr>
        <p:grpSp>
          <p:nvGrpSpPr>
            <p:cNvPr id="102" name=""/>
            <p:cNvGrpSpPr/>
            <p:nvPr/>
          </p:nvGrpSpPr>
          <p:grpSpPr>
            <a:xfrm>
              <a:off x="5187240" y="3062160"/>
              <a:ext cx="2544840" cy="1386360"/>
              <a:chOff x="5187240" y="3062160"/>
              <a:chExt cx="2544840" cy="1386360"/>
            </a:xfrm>
          </p:grpSpPr>
          <p:sp>
            <p:nvSpPr>
              <p:cNvPr id="103" name=""/>
              <p:cNvSpPr/>
              <p:nvPr/>
            </p:nvSpPr>
            <p:spPr>
              <a:xfrm>
                <a:off x="6264000" y="3214440"/>
                <a:ext cx="399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342040" y="3711960"/>
                <a:ext cx="22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474960" y="322596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331240" y="369936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920920" y="372348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476040" y="371196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32240" y="371808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86280" y="3723480"/>
                <a:ext cx="0" cy="4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431840" y="4114080"/>
                <a:ext cx="300240" cy="29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187240" y="4137840"/>
                <a:ext cx="299880" cy="29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319080" y="4119120"/>
                <a:ext cx="300240" cy="329400"/>
              </a:xfrm>
              <a:prstGeom prst="rect">
                <a:avLst/>
              </a:prstGeom>
              <a:solidFill>
                <a:srgbClr val="00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82120" y="4114080"/>
                <a:ext cx="29988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749920" y="4115160"/>
                <a:ext cx="300240" cy="329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968800" y="3062160"/>
                <a:ext cx="299880" cy="3294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653160" y="3078720"/>
                <a:ext cx="300240" cy="29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273560" y="1628640"/>
              <a:ext cx="4546440" cy="1232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66"/>
                  </a:solidFill>
                  <a:latin typeface="Arial Unicode MS"/>
                </a:rPr>
                <a:t>A marriage with five children, two daughters and three sons. The eldest son is affected by the condition.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12040" y="4745880"/>
              <a:ext cx="3846960" cy="572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66"/>
                  </a:solidFill>
                  <a:latin typeface="Arial Unicode MS"/>
                </a:rPr>
                <a:t>Eldest child </a:t>
              </a:r>
              <a:r>
                <a:rPr b="0" lang="fr-FR" sz="2000" spc="-1" strike="noStrike">
                  <a:solidFill>
                    <a:srgbClr val="336666"/>
                  </a:solidFill>
                  <a:latin typeface="Symbol"/>
                  <a:ea typeface="Symbol"/>
                </a:rPr>
                <a:t></a:t>
              </a:r>
              <a:r>
                <a:rPr b="0" lang="fr-FR" sz="2000" spc="-1" strike="noStrike">
                  <a:solidFill>
                    <a:srgbClr val="336666"/>
                  </a:solidFill>
                  <a:latin typeface="Arial Unicode MS"/>
                </a:rPr>
                <a:t> Youngest child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36640" y="1974960"/>
            <a:ext cx="1004400" cy="2404440"/>
            <a:chOff x="836640" y="1974960"/>
            <a:chExt cx="1004400" cy="2404440"/>
          </a:xfrm>
        </p:grpSpPr>
        <p:sp>
          <p:nvSpPr>
            <p:cNvPr id="121" name=""/>
            <p:cNvSpPr/>
            <p:nvPr/>
          </p:nvSpPr>
          <p:spPr>
            <a:xfrm>
              <a:off x="847800" y="1974960"/>
              <a:ext cx="360360" cy="360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44560" y="2487600"/>
              <a:ext cx="360360" cy="36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6640" y="3019320"/>
              <a:ext cx="360360" cy="3603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2480" y="3524400"/>
              <a:ext cx="360360" cy="360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853920" y="4017960"/>
              <a:ext cx="987120" cy="361440"/>
              <a:chOff x="853920" y="4017960"/>
              <a:chExt cx="987120" cy="361440"/>
            </a:xfrm>
          </p:grpSpPr>
          <p:sp>
            <p:nvSpPr>
              <p:cNvPr id="126" name=""/>
              <p:cNvSpPr/>
              <p:nvPr/>
            </p:nvSpPr>
            <p:spPr>
              <a:xfrm>
                <a:off x="1142640" y="4194720"/>
                <a:ext cx="436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53920" y="4017960"/>
                <a:ext cx="352800" cy="3553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505160" y="4024080"/>
                <a:ext cx="335880" cy="3553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Organizing the pedigree chart</a:t>
            </a:r>
            <a:r>
              <a:rPr b="0" lang="fr-FR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1320" y="1904760"/>
            <a:ext cx="76932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digree chart of a family showing 20 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93800" y="2771640"/>
            <a:ext cx="7288920" cy="3673080"/>
            <a:chOff x="793800" y="2771640"/>
            <a:chExt cx="7288920" cy="3673080"/>
          </a:xfrm>
        </p:grpSpPr>
        <p:grpSp>
          <p:nvGrpSpPr>
            <p:cNvPr id="133" name=""/>
            <p:cNvGrpSpPr/>
            <p:nvPr/>
          </p:nvGrpSpPr>
          <p:grpSpPr>
            <a:xfrm>
              <a:off x="2359080" y="2873520"/>
              <a:ext cx="5723640" cy="3571200"/>
              <a:chOff x="2359080" y="2873520"/>
              <a:chExt cx="5723640" cy="3571200"/>
            </a:xfrm>
          </p:grpSpPr>
          <p:sp>
            <p:nvSpPr>
              <p:cNvPr id="134" name=""/>
              <p:cNvSpPr/>
              <p:nvPr/>
            </p:nvSpPr>
            <p:spPr>
              <a:xfrm>
                <a:off x="3930120" y="3513600"/>
                <a:ext cx="0" cy="48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2359080" y="2873520"/>
                <a:ext cx="5723640" cy="3571200"/>
                <a:chOff x="2359080" y="2873520"/>
                <a:chExt cx="5723640" cy="3571200"/>
              </a:xfrm>
            </p:grpSpPr>
            <p:sp>
              <p:nvSpPr>
                <p:cNvPr id="136" name=""/>
                <p:cNvSpPr/>
                <p:nvPr/>
              </p:nvSpPr>
              <p:spPr>
                <a:xfrm flipH="1">
                  <a:off x="3426120" y="41133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202920" y="394272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298920" y="4077720"/>
                  <a:ext cx="42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654960" y="52228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5746320" y="5704920"/>
                  <a:ext cx="223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6862680" y="5234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35520" y="57099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31656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863760" y="57049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411680" y="5711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95744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180480" y="6127560"/>
                  <a:ext cx="29592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593320" y="613296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8600" y="6113880"/>
                  <a:ext cx="295920" cy="33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263360" y="6108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786800" y="61099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38000" y="50688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3180240" y="4635720"/>
                  <a:ext cx="12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656520" y="4113360"/>
                  <a:ext cx="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80240" y="463572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792600" y="4640760"/>
                  <a:ext cx="0" cy="52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405320" y="464724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682320" y="3942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6512760" y="4078800"/>
                  <a:ext cx="0" cy="10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6363720" y="5052240"/>
                  <a:ext cx="2959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grpSp>
              <p:nvGrpSpPr>
                <p:cNvPr id="161" name=""/>
                <p:cNvGrpSpPr/>
                <p:nvPr/>
              </p:nvGrpSpPr>
              <p:grpSpPr>
                <a:xfrm>
                  <a:off x="2359080" y="5068800"/>
                  <a:ext cx="969840" cy="331920"/>
                  <a:chOff x="2359080" y="5068800"/>
                  <a:chExt cx="969840" cy="33192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2359080" y="5069880"/>
                    <a:ext cx="295560" cy="33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3033000" y="5068800"/>
                    <a:ext cx="29592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2649960" y="5222880"/>
                    <a:ext cx="393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34200" y="506448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258440" y="50814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866120" y="30261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3957480" y="352620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073840" y="3037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52808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074920" y="35262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622840" y="35323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616896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391640" y="3948840"/>
                  <a:ext cx="29556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804480" y="395388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20120" y="393516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5474520" y="39301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5997960" y="3930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74880" y="28735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5249160" y="2889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848520" y="2771640"/>
              <a:ext cx="4431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7720" y="3892680"/>
              <a:ext cx="574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06400" y="5013720"/>
              <a:ext cx="60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3800" y="5961240"/>
              <a:ext cx="59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488880" y="635472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Organizing the pedigree ch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0040" y="1672920"/>
            <a:ext cx="801216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ions are identified by Roman numeral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905040" y="2604960"/>
            <a:ext cx="7288920" cy="3673080"/>
            <a:chOff x="905040" y="2604960"/>
            <a:chExt cx="7288920" cy="3673080"/>
          </a:xfrm>
        </p:grpSpPr>
        <p:grpSp>
          <p:nvGrpSpPr>
            <p:cNvPr id="189" name=""/>
            <p:cNvGrpSpPr/>
            <p:nvPr/>
          </p:nvGrpSpPr>
          <p:grpSpPr>
            <a:xfrm>
              <a:off x="2470320" y="2706840"/>
              <a:ext cx="5723640" cy="3571200"/>
              <a:chOff x="2470320" y="2706840"/>
              <a:chExt cx="5723640" cy="3571200"/>
            </a:xfrm>
          </p:grpSpPr>
          <p:sp>
            <p:nvSpPr>
              <p:cNvPr id="190" name=""/>
              <p:cNvSpPr/>
              <p:nvPr/>
            </p:nvSpPr>
            <p:spPr>
              <a:xfrm>
                <a:off x="4041360" y="3346920"/>
                <a:ext cx="0" cy="48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2470320" y="2706840"/>
                <a:ext cx="5723640" cy="3571200"/>
                <a:chOff x="2470320" y="2706840"/>
                <a:chExt cx="5723640" cy="3571200"/>
              </a:xfrm>
            </p:grpSpPr>
            <p:sp>
              <p:nvSpPr>
                <p:cNvPr id="192" name=""/>
                <p:cNvSpPr/>
                <p:nvPr/>
              </p:nvSpPr>
              <p:spPr>
                <a:xfrm flipH="1">
                  <a:off x="3537360" y="39466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314160" y="377604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410160" y="3911040"/>
                  <a:ext cx="42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766200" y="505620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5857560" y="5538240"/>
                  <a:ext cx="2232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973920" y="50677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5846760" y="55432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427800" y="55497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75000" y="55382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7522920" y="55447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068680" y="55497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291720" y="5960880"/>
                  <a:ext cx="29592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704560" y="596628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819840" y="5947200"/>
                  <a:ext cx="295920" cy="33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7374600" y="594216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7898040" y="59432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149240" y="49021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291480" y="4469040"/>
                  <a:ext cx="12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767760" y="3946680"/>
                  <a:ext cx="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3291480" y="446904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03840" y="4474080"/>
                  <a:ext cx="0" cy="52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516560" y="448056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793560" y="377604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624000" y="3912120"/>
                  <a:ext cx="0" cy="10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474960" y="4885560"/>
                  <a:ext cx="2959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"/>
                <p:cNvGrpSpPr/>
                <p:nvPr/>
              </p:nvGrpSpPr>
              <p:grpSpPr>
                <a:xfrm>
                  <a:off x="2470320" y="4902120"/>
                  <a:ext cx="969840" cy="331920"/>
                  <a:chOff x="2470320" y="4902120"/>
                  <a:chExt cx="969840" cy="331920"/>
                </a:xfrm>
              </p:grpSpPr>
              <p:sp>
                <p:nvSpPr>
                  <p:cNvPr id="218" name=""/>
                  <p:cNvSpPr/>
                  <p:nvPr/>
                </p:nvSpPr>
                <p:spPr>
                  <a:xfrm>
                    <a:off x="2470320" y="4903200"/>
                    <a:ext cx="295560" cy="33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3144240" y="4902120"/>
                    <a:ext cx="29592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2761200" y="5056200"/>
                    <a:ext cx="393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1" name=""/>
                <p:cNvSpPr/>
                <p:nvPr/>
              </p:nvSpPr>
              <p:spPr>
                <a:xfrm>
                  <a:off x="3745440" y="489780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4369680" y="4914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4977360" y="28594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068720" y="335952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185080" y="28710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639320" y="3370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86160" y="33595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734080" y="33656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280200" y="3370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502880" y="3782160"/>
                  <a:ext cx="29556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3915720" y="37872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031360" y="376848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585760" y="37634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6109200" y="376416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86120" y="2706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360400" y="272304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7" name=""/>
            <p:cNvSpPr/>
            <p:nvPr/>
          </p:nvSpPr>
          <p:spPr>
            <a:xfrm>
              <a:off x="959760" y="2604960"/>
              <a:ext cx="4431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948960" y="3726000"/>
              <a:ext cx="574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917640" y="4847040"/>
              <a:ext cx="60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05040" y="5794560"/>
              <a:ext cx="59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488880" y="643104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0000"/>
                </a:solidFill>
                <a:latin typeface="Arial"/>
              </a:rPr>
              <a:t>Organizing the pedigree char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568520"/>
            <a:ext cx="839484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in each generation are identified by Arabic numerals numbered from the le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the affected individuals ar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V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915840" y="2771640"/>
            <a:ext cx="7289280" cy="3673080"/>
            <a:chOff x="915840" y="2771640"/>
            <a:chExt cx="7289280" cy="3673080"/>
          </a:xfrm>
        </p:grpSpPr>
        <p:grpSp>
          <p:nvGrpSpPr>
            <p:cNvPr id="245" name=""/>
            <p:cNvGrpSpPr/>
            <p:nvPr/>
          </p:nvGrpSpPr>
          <p:grpSpPr>
            <a:xfrm>
              <a:off x="2481120" y="2873520"/>
              <a:ext cx="5724000" cy="3571200"/>
              <a:chOff x="2481120" y="2873520"/>
              <a:chExt cx="5724000" cy="3571200"/>
            </a:xfrm>
          </p:grpSpPr>
          <p:sp>
            <p:nvSpPr>
              <p:cNvPr id="246" name=""/>
              <p:cNvSpPr/>
              <p:nvPr/>
            </p:nvSpPr>
            <p:spPr>
              <a:xfrm>
                <a:off x="4052160" y="3513600"/>
                <a:ext cx="0" cy="48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6666"/>
                  </a:solidFill>
                  <a:latin typeface="Arial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2481120" y="2873520"/>
                <a:ext cx="5724000" cy="3571200"/>
                <a:chOff x="2481120" y="2873520"/>
                <a:chExt cx="5724000" cy="3571200"/>
              </a:xfrm>
            </p:grpSpPr>
            <p:sp>
              <p:nvSpPr>
                <p:cNvPr id="248" name=""/>
                <p:cNvSpPr/>
                <p:nvPr/>
              </p:nvSpPr>
              <p:spPr>
                <a:xfrm flipH="1">
                  <a:off x="3548520" y="41133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324960" y="394272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6421320" y="4077720"/>
                  <a:ext cx="426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6777360" y="522288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68720" y="570492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985080" y="5234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857560" y="57099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43896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6986160" y="57049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534080" y="57114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8079840" y="571644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302520" y="6127560"/>
                  <a:ext cx="29592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715720" y="613296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831000" y="6113880"/>
                  <a:ext cx="295920" cy="3308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7385760" y="6108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7909200" y="61099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160400" y="50688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302280" y="4635720"/>
                  <a:ext cx="1246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778560" y="4113360"/>
                  <a:ext cx="0" cy="540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302280" y="463572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915000" y="4640760"/>
                  <a:ext cx="0" cy="523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527360" y="4647240"/>
                  <a:ext cx="0" cy="52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04720" y="3942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635160" y="4078800"/>
                  <a:ext cx="0" cy="1062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486120" y="5052240"/>
                  <a:ext cx="295920" cy="3312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grpSp>
              <p:nvGrpSpPr>
                <p:cNvPr id="273" name=""/>
                <p:cNvGrpSpPr/>
                <p:nvPr/>
              </p:nvGrpSpPr>
              <p:grpSpPr>
                <a:xfrm>
                  <a:off x="2481120" y="5068800"/>
                  <a:ext cx="969840" cy="331920"/>
                  <a:chOff x="2481120" y="5068800"/>
                  <a:chExt cx="969840" cy="331920"/>
                </a:xfrm>
              </p:grpSpPr>
              <p:sp>
                <p:nvSpPr>
                  <p:cNvPr id="274" name=""/>
                  <p:cNvSpPr/>
                  <p:nvPr/>
                </p:nvSpPr>
                <p:spPr>
                  <a:xfrm>
                    <a:off x="2481120" y="5069880"/>
                    <a:ext cx="295560" cy="3308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155040" y="5068800"/>
                    <a:ext cx="295920" cy="295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2772000" y="5222880"/>
                    <a:ext cx="3938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3366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"/>
                <p:cNvSpPr/>
                <p:nvPr/>
              </p:nvSpPr>
              <p:spPr>
                <a:xfrm>
                  <a:off x="3756240" y="506448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4380480" y="508140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4988160" y="3026160"/>
                  <a:ext cx="393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4079520" y="3526200"/>
                  <a:ext cx="22327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196240" y="303768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65012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196960" y="352620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5744880" y="353232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291000" y="3537360"/>
                  <a:ext cx="0" cy="488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514040" y="3948840"/>
                  <a:ext cx="295560" cy="295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926520" y="395388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042160" y="3935160"/>
                  <a:ext cx="29556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5596920" y="39301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120360" y="393084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4697280" y="2873520"/>
                  <a:ext cx="295920" cy="3308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5371560" y="2889720"/>
                  <a:ext cx="295920" cy="2955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66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3" name=""/>
            <p:cNvSpPr/>
            <p:nvPr/>
          </p:nvSpPr>
          <p:spPr>
            <a:xfrm>
              <a:off x="970560" y="2771640"/>
              <a:ext cx="443160" cy="40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59760" y="3892680"/>
              <a:ext cx="574200" cy="40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28440" y="5013720"/>
              <a:ext cx="607680" cy="41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II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15840" y="5961240"/>
              <a:ext cx="59112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336666"/>
                  </a:solidFill>
                  <a:latin typeface="Times New Roman"/>
                </a:rPr>
                <a:t>IV</a:t>
              </a:r>
              <a:endParaRPr b="0" lang="en-US" sz="24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488880" y="6488280"/>
            <a:ext cx="21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66"/>
                </a:solidFill>
                <a:latin typeface="Arial"/>
              </a:rPr>
              <a:t>© 2007 Paul Billiet ODWS</a:t>
            </a:r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1T08:35:01Z</dcterms:created>
  <dc:creator>Billiet</dc:creator>
  <dc:description/>
  <dc:language>en-US</dc:language>
  <cp:lastModifiedBy>Cumberland County Schools</cp:lastModifiedBy>
  <dcterms:modified xsi:type="dcterms:W3CDTF">2011-03-18T13:21:57Z</dcterms:modified>
  <cp:revision>9</cp:revision>
  <dc:subject/>
  <dc:title>PEDIGREE CHARTS </dc:title>
</cp:coreProperties>
</file>